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1E64-C7AF-42B0-A319-893B32D3D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DFFD-F044-41F7-B504-D1CF4F88D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8668-A096-4834-92D1-A4A2EBC48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8B53-C3CE-451F-959D-26918101A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4FF8-45CF-43CB-9800-47681452D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6160-4009-497D-8D3B-F96AE9A4F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2B77-12FC-4AC2-888F-FC6169B36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EF71-8661-4A53-B420-59681B091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BE39-254F-4D8D-AA3B-5E80EF306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3952-2DC8-4865-9EAD-C95DF91A6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49D2-22C3-4762-97B1-5C5D83887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EE88-7D6C-4489-92A0-F5C031B1D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A4624-B8FB-4E9A-92C2-223164F472D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Bivariate Data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0000"/>
                </a:solidFill>
                <a:latin typeface="Cambria"/>
              </a:rPr>
              <a:t>Pearson’s Product-Moment Correlation Coefficien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Correlation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As we saw in Ex 2E, correlation refers to the strength of the relationship between two variables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BUT, this is subjective (i.e. What you think of as strong, I might think is only moderate. What she thinks is weak, he thinks is strong)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ambria"/>
              </a:rPr>
              <a:t>Pearson’s Product-Moment Correlation Coefficient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000000"/>
                </a:solidFill>
                <a:latin typeface="Cambria"/>
              </a:rPr>
              <a:t>Pearson’s Coefficient</a:t>
            </a:r>
            <a:r>
              <a:rPr b="0" lang="en-AU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1" lang="en-AU" sz="3000" spc="-1" strike="noStrike">
                <a:solidFill>
                  <a:srgbClr val="000000"/>
                </a:solidFill>
                <a:latin typeface="Cambria"/>
              </a:rPr>
              <a:t>r</a:t>
            </a:r>
            <a:r>
              <a:rPr b="0" lang="en-AU" sz="3000" spc="-1" strike="noStrike">
                <a:solidFill>
                  <a:srgbClr val="000000"/>
                </a:solidFill>
                <a:latin typeface="Cambria"/>
              </a:rPr>
              <a:t>, measures the correlation between 2 variables.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mbria"/>
              </a:rPr>
              <a:t>Depending on the strength of the scatterplot, r can range from –1 and 1.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mbria"/>
              </a:rPr>
              <a:t>In a strong positive correlation, r is close to 1.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mbria"/>
              </a:rPr>
              <a:t>In a strong negative correlation, r is close to </a:t>
            </a:r>
            <a:r>
              <a:rPr b="0" lang="en-AU" sz="3000" spc="-1" strike="noStrike" baseline="30000">
                <a:solidFill>
                  <a:srgbClr val="000000"/>
                </a:solidFill>
                <a:latin typeface="Cambria"/>
              </a:rPr>
              <a:t>–</a:t>
            </a:r>
            <a:r>
              <a:rPr b="0" lang="en-AU" sz="3000" spc="-1" strike="noStrike">
                <a:solidFill>
                  <a:srgbClr val="000000"/>
                </a:solidFill>
                <a:latin typeface="Cambria"/>
              </a:rPr>
              <a:t>1.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mbria"/>
              </a:rPr>
              <a:t>r = 0 means that the 2 variables have no relationship.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48" name="Content Placeholder 3" descr="Pearson's coefficient.jpg"/>
          <p:cNvPicPr/>
          <p:nvPr/>
        </p:nvPicPr>
        <p:blipFill>
          <a:blip r:embed="rId1"/>
          <a:stretch/>
        </p:blipFill>
        <p:spPr>
          <a:xfrm>
            <a:off x="457200" y="1627200"/>
            <a:ext cx="8229600" cy="44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ambria"/>
              </a:rPr>
              <a:t>Guide to the strength of correlation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0" name="Content Placeholder 3" descr="Range of Pearson's coefficient.jpg"/>
          <p:cNvPicPr/>
          <p:nvPr/>
        </p:nvPicPr>
        <p:blipFill>
          <a:blip r:embed="rId1"/>
          <a:stretch/>
        </p:blipFill>
        <p:spPr>
          <a:xfrm>
            <a:off x="2352600" y="1995480"/>
            <a:ext cx="44388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For you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Ex 2F, Q. 1 to 4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2T06:14:31Z</dcterms:created>
  <dc:creator>08843474</dc:creator>
  <dc:description/>
  <dc:language>en-US</dc:language>
  <cp:lastModifiedBy>08843474</cp:lastModifiedBy>
  <dcterms:modified xsi:type="dcterms:W3CDTF">2011-02-12T06:48:17Z</dcterms:modified>
  <cp:revision>4</cp:revision>
  <dc:subject/>
  <dc:title>Bivariate Data</dc:title>
</cp:coreProperties>
</file>